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326B-D882-49FA-B13B-76D1EB860A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5E39-4C77-4250-B152-F66A3E49A0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9574-BD60-45F2-899C-A4474800F7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B26E-A235-44ED-ADA9-0E81A97F0A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6B13-1D51-4F1A-8235-3938A1909E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D6D8-4700-4567-86D0-A73907F897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BE39-3182-4498-9CAC-9C370735F1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2254-0FD4-41E8-9227-F5D39965EA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518C-B86C-4BB9-9DD7-E9EA178539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159B-2C9A-4AFB-8B50-9197835B08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3A7A-875F-41E5-A55A-9B97BDCBAA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33BC-56FC-402F-B692-4206D860E2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0201-7C11-4C6B-8C7E-750581531A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1ED-390A-4F5F-A708-D3851679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382-AD47-48E8-B40E-4702F61E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4F9-F671-4813-A711-ED75D707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288-9BA4-4D2F-95CC-FF1F992D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3358-E372-4B69-A6F8-EA9473E8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C27D-2B88-4A7F-9F56-0D53997C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BFB6-E8B8-470A-91A3-71488A0E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24A7-11F2-4F23-8A40-70C9846F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4FA3-D645-44A9-B366-67A4578D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9590-F229-4443-9845-9195DB17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BE51-EBB6-4E45-8666-E5A19C4E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81C-E20F-4505-809D-7A5700D2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85D6-8AE9-438E-96A8-EE7A5E3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628D-FEB5-4995-9BC0-472F8587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3DA7-B080-4422-BCC3-27E3D591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F250-B7F7-42BC-806F-2DAB6D2E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326E-98BE-4035-948B-6FEA6AFB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6A55-4C0D-4E8B-BC91-B38B1302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F0D4-2A8B-478A-87FE-88924B71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5BEA-2DDC-41B8-9725-0D453A44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DFC8-3021-4D62-ACF9-4A5CC460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4395-94C9-4B02-AB12-24984331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FE9-8240-4A1F-B614-01FEFF00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0857-C12F-41E3-8EFE-14362261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972A-117E-4A48-946C-146DF402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3457-AFCC-4B9E-9050-9D2F70C0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43C4-575A-4331-A7D6-8B91BC52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C1ED-1491-42AB-A123-0FEF48B7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FECF-3E47-4195-8CEF-318428D8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9014-3A71-488E-8A3F-79B2DBEE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1591B-0A32-4B64-8B8A-C600ADC3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51988-8C22-4075-A2DC-66098D42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198B2-0FB1-4320-96A6-3BD862A7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DB0-034D-4168-9F1F-6F600EB1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4AD7D-D897-4D3D-A3CB-9DDC35B3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E1AA-BD25-4925-8CBC-39D1DFAD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9F31-27B1-46E4-B33A-675137A5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23C3-6DED-4EE4-986B-01F2A11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AFCD1-FCA6-4217-8DA2-FE6ACAEE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F1CB-58F8-4A31-9031-8E1321A8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15A2-D7D5-4A0C-9DA0-ECF73F95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73FD-3B48-4CBD-8A6B-75A8DC74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4ADF-3809-43E8-8D19-8C8422C2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A2C-4C22-43D1-BF98-D67E873A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7C9-9D05-4E9C-9DB3-AEB9C187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DB2-CC4F-4E66-96D7-D3B05A39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D0A-076D-42EC-84D8-F1D4DFD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6B8-D1CA-4713-B672-7D2F5C67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E641-1E4A-41C5-B458-8C10739AE6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10" descr="ancient china logo"/>
          <p:cNvPicPr/>
          <p:nvPr/>
        </p:nvPicPr>
        <p:blipFill>
          <a:blip r:embed="rId2"/>
          <a:stretch/>
        </p:blipFill>
        <p:spPr>
          <a:xfrm>
            <a:off x="6516720" y="333360"/>
            <a:ext cx="2200320" cy="1063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C1F4-5427-4795-98A9-42F893998F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7D8F-B353-42DE-8BC2-DFE76FE7F3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21DF-AE82-4B75-8070-1B5D82E09A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hina.mrdonn.org/index.html" TargetMode="External"/><Relationship Id="rId3" Type="http://schemas.openxmlformats.org/officeDocument/2006/relationships/hyperlink" Target="http://www.pppst.com/clipart.html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1523880" y="1676520"/>
            <a:ext cx="6553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Ancient Chinese DRAGO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well 03b dragon"/>
          <p:cNvPicPr/>
          <p:nvPr/>
        </p:nvPicPr>
        <p:blipFill>
          <a:blip r:embed="rId1"/>
          <a:stretch/>
        </p:blipFill>
        <p:spPr>
          <a:xfrm>
            <a:off x="3886200" y="358128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5562720" y="5359320"/>
            <a:ext cx="3581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Written by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Sylfaen"/>
                <a:hlinkClick r:id="rId2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Illustrated by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Sylfaen"/>
                <a:hlinkClick r:id="rId3"/>
              </a:rPr>
              <a:t>Phillip Mar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740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Metal Drag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09480" y="18288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gend says ….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Metal dragons are gol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92200" y="2451240"/>
            <a:ext cx="412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uard metals and precious gems.  These dragons succeed because they refuse to accept fail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dragon 07"/>
          <p:cNvPicPr/>
          <p:nvPr/>
        </p:nvPicPr>
        <p:blipFill>
          <a:blip r:embed="rId1"/>
          <a:stretch/>
        </p:blipFill>
        <p:spPr>
          <a:xfrm>
            <a:off x="4070520" y="2421000"/>
            <a:ext cx="5686200" cy="41623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609480" y="4648320"/>
            <a:ext cx="403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ve little caring for the feeling of others. These dragons are quite selfis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740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Water Drag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09480" y="182880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gend says …. </a:t>
            </a:r>
            <a:r>
              <a:rPr b="1" lang="en-US" sz="2800" spc="-1" strike="noStrike">
                <a:solidFill>
                  <a:srgbClr val="bbc7ed"/>
                </a:solidFill>
                <a:latin typeface="Arial"/>
                <a:ea typeface="Times New Roman"/>
              </a:rPr>
              <a:t>Water dragons are blue</a:t>
            </a:r>
            <a:r>
              <a:rPr b="0" lang="en-US" sz="2800" spc="-1" strike="noStrike">
                <a:solidFill>
                  <a:srgbClr val="bbc7ed"/>
                </a:solidFill>
                <a:latin typeface="Arial"/>
                <a:ea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611280" y="2532240"/>
            <a:ext cx="376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uard rivers, rain, wells, and water.  They get along well with peopl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11280" y="4292640"/>
            <a:ext cx="282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know how to accept defeat and how to rebui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8" descr="dragon 08"/>
          <p:cNvPicPr/>
          <p:nvPr/>
        </p:nvPicPr>
        <p:blipFill>
          <a:blip r:embed="rId1"/>
          <a:stretch/>
        </p:blipFill>
        <p:spPr>
          <a:xfrm>
            <a:off x="3587760" y="2535120"/>
            <a:ext cx="54482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10836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Conclus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609480" y="1828800"/>
            <a:ext cx="821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ce the ancient Chinese firmly believed that dragons were real and had special magical powers, dragons were an important part of ancient Chinese daily lif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44400" y="52293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609480" y="373392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were blamed for a great deal that went wrong, and credited with things that went righ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609480" y="52578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ragons were (and still are) a fun ancient Chinese inven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dragon 02"/>
          <p:cNvPicPr/>
          <p:nvPr/>
        </p:nvPicPr>
        <p:blipFill>
          <a:blip r:embed="rId1"/>
          <a:stretch/>
        </p:blipFill>
        <p:spPr>
          <a:xfrm>
            <a:off x="5784840" y="4076640"/>
            <a:ext cx="33242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91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In the world of fantastic animals, the dragon is unique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5" descr="_x000c_dragon19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5838840" y="0"/>
            <a:ext cx="330516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_x000c_dragon23.jpg                                                   0003D3A5_x000c_Macintosh HD                   ABA78158:"/>
          <p:cNvPicPr/>
          <p:nvPr/>
        </p:nvPicPr>
        <p:blipFill>
          <a:blip r:embed="rId2"/>
          <a:stretch/>
        </p:blipFill>
        <p:spPr>
          <a:xfrm>
            <a:off x="0" y="1905120"/>
            <a:ext cx="485784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0"/>
            <a:ext cx="3200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o other creature has appeared in such a rich variety of forms. It is as though there was once a whole family of different dragon species that really existed, before they mysteriously became extin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5" descr="_x000c_dragon15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3200400" y="304920"/>
            <a:ext cx="5943600" cy="632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_x000c_dragon08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2133720" y="0"/>
            <a:ext cx="54846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_x000c_dragon09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_x000c_dragon22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_x000c_dragon18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380880" y="-31680"/>
            <a:ext cx="8458200" cy="688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_x000c_dragon11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990720" y="0"/>
            <a:ext cx="6837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Ancient Chi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09480" y="1828800"/>
            <a:ext cx="821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oday, we know that magical dragons exist only in imagination and myth.  They ar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yth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reat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44400" y="52293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609480" y="341784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t in ancient China, the people firmly believed that dragons were real and powerful. The dragon was the sign of the empero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609480" y="502920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er time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Drago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became a nickname for Ch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0" descr="well 03b dragon"/>
          <p:cNvPicPr/>
          <p:nvPr/>
        </p:nvPicPr>
        <p:blipFill>
          <a:blip r:embed="rId1"/>
          <a:stretch/>
        </p:blipFill>
        <p:spPr>
          <a:xfrm>
            <a:off x="6705720" y="4648320"/>
            <a:ext cx="1447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_x000c_dragon07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1447920" y="0"/>
            <a:ext cx="5595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_x000b_dragon9.gif                                                    0003D3C4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_x0011_dragon200x300.gif                                              0003D3C4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0"/>
            <a:ext cx="4837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_x000c_dragon04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3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_x000c_dragon20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0"/>
            <a:ext cx="5487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_x000c_dragon02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838080" y="-12600"/>
            <a:ext cx="7467840" cy="687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_x000c_dragon17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0"/>
            <a:ext cx="5116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_x000c_dragon06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1066680" y="0"/>
            <a:ext cx="6782040" cy="670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Ancient Chi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8288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ancient China, dragons were thought to be wise, caring, and a bit mischievou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457200" y="2884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di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eathe fire. They had personalities.  They had magical power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533520" y="396252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could appear and  disappear whenever they wan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533520" y="571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could turn into beasts if  they were angry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0" descr="dragon 02"/>
          <p:cNvPicPr/>
          <p:nvPr/>
        </p:nvPicPr>
        <p:blipFill>
          <a:blip r:embed="rId1"/>
          <a:stretch/>
        </p:blipFill>
        <p:spPr>
          <a:xfrm>
            <a:off x="5029200" y="3276720"/>
            <a:ext cx="33242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Ancient Chi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68360" y="1773360"/>
            <a:ext cx="49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ragons in ancient China were a composite (a mix) of parts from different anim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8" descr="dragon 03"/>
          <p:cNvPicPr/>
          <p:nvPr/>
        </p:nvPicPr>
        <p:blipFill>
          <a:blip r:embed="rId1"/>
          <a:stretch/>
        </p:blipFill>
        <p:spPr>
          <a:xfrm>
            <a:off x="5292720" y="1413000"/>
            <a:ext cx="3753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Ancient Chi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17680" y="1752480"/>
            <a:ext cx="51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mythical creatures 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85800" y="2286000"/>
            <a:ext cx="24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09480" y="556272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d whisk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09480" y="2362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camel hea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609480" y="2819520"/>
            <a:ext cx="24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nake nec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609480" y="3276720"/>
            <a:ext cx="19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ish scal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609480" y="3733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agle claw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609480" y="41911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iger paw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09480" y="4648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x ear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609480" y="5105520"/>
            <a:ext cx="20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er hor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5" descr="dragon 03"/>
          <p:cNvPicPr/>
          <p:nvPr/>
        </p:nvPicPr>
        <p:blipFill>
          <a:blip r:embed="rId1"/>
          <a:stretch/>
        </p:blipFill>
        <p:spPr>
          <a:xfrm>
            <a:off x="4343400" y="1371600"/>
            <a:ext cx="3753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Ancient Chi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5" name="Picture 4" descr="dragon 03"/>
          <p:cNvPicPr/>
          <p:nvPr/>
        </p:nvPicPr>
        <p:blipFill>
          <a:blip r:embed="rId1"/>
          <a:stretch/>
        </p:blipFill>
        <p:spPr>
          <a:xfrm>
            <a:off x="4343400" y="1447920"/>
            <a:ext cx="3753000" cy="4819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517680" y="2057400"/>
            <a:ext cx="466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ir job in ancient China was to act as guardia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Wood Drag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09480" y="18288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gend says …. </a:t>
            </a:r>
            <a:r>
              <a:rPr b="1" lang="en-US" sz="2800" spc="-1" strike="noStrike">
                <a:solidFill>
                  <a:srgbClr val="e1c3b9"/>
                </a:solidFill>
                <a:latin typeface="Arial"/>
                <a:ea typeface="Times New Roman"/>
              </a:rPr>
              <a:t>Wood dragons are brow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611280" y="465300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not as selfish as the other dragons. They share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11280" y="289260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uard the forest.  They are imaginative and curious, and come up with brilliant new ide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54120" y="6067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dragon 04"/>
          <p:cNvPicPr/>
          <p:nvPr/>
        </p:nvPicPr>
        <p:blipFill>
          <a:blip r:embed="rId1"/>
          <a:stretch/>
        </p:blipFill>
        <p:spPr>
          <a:xfrm>
            <a:off x="4073400" y="2065320"/>
            <a:ext cx="50706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64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Fire Drag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09480" y="1828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gend says …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Fire dragons are r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92200" y="2570040"/>
            <a:ext cx="53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uard the wind, fire, lightning and sk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92200" y="3657600"/>
            <a:ext cx="347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dragons are the 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going and short-temper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9" descr="dragon 05"/>
          <p:cNvPicPr/>
          <p:nvPr/>
        </p:nvPicPr>
        <p:blipFill>
          <a:blip r:embed="rId1"/>
          <a:stretch/>
        </p:blipFill>
        <p:spPr>
          <a:xfrm>
            <a:off x="3657600" y="2286000"/>
            <a:ext cx="5695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46800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Earth Drag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666720" y="1828800"/>
            <a:ext cx="77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gend says …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Earth dragons are green.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665280" y="2714760"/>
            <a:ext cx="441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uard the earth, the crops, and the mountai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know the val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ooper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0" descr="dragon 06"/>
          <p:cNvPicPr/>
          <p:nvPr/>
        </p:nvPicPr>
        <p:blipFill>
          <a:blip r:embed="rId1"/>
          <a:stretch/>
        </p:blipFill>
        <p:spPr>
          <a:xfrm>
            <a:off x="2273400" y="2421000"/>
            <a:ext cx="6762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1:00:10Z</dcterms:created>
  <dc:creator>Lin Donn</dc:creator>
  <dc:description>Illustrated by Phillip Martin</dc:description>
  <dc:language>en-US</dc:language>
  <cp:lastModifiedBy>Laura Ruggles</cp:lastModifiedBy>
  <dcterms:modified xsi:type="dcterms:W3CDTF">2012-12-06T14:03:31Z</dcterms:modified>
  <cp:revision>79</cp:revision>
  <dc:subject/>
  <dc:title>Ancient Chinese Dragons</dc:title>
</cp:coreProperties>
</file>